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AA9-89F2-4BF4-B7B5-F7E9E955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A4B-8608-4D08-B485-599CD3C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B0B-4684-4B8A-A70B-2853370C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CA3-3518-419C-BD4A-6FF73A18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591-883A-4B28-89A2-1309FBA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21A-A2BC-4190-8989-AA0402F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761-1B93-422F-9715-83A10C5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197-031D-41B8-8D3B-991E887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21C-9BD7-4219-954E-9BF2B0C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B91-7819-4C89-8D93-6FDE801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778-9AC3-4C08-94B7-C70A5CD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493-397F-4978-A9AA-1D1AB6E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D06-6C6C-4CB5-94FA-B877747883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BBF3-DDC5-469E-BAE6-0B344B2D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Об итогах исполнения бюджета города Орла за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квартал 2017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07280" cy="542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6872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8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Основные параметры бюджета             города Орла на 2017 год (млн.рублей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557360"/>
            <a:ext cx="2808360" cy="2014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209520" indent="-209520"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4 152,8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8604360" y="6245280"/>
            <a:ext cx="53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581360"/>
            <a:ext cx="3457440" cy="1727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307,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1484280"/>
            <a:ext cx="2950920" cy="2087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209520" indent="-209520" algn="just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4 460,0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780000" y="3068280"/>
            <a:ext cx="1296720" cy="115236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6872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-18108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1920" y="333360"/>
            <a:ext cx="881208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Основные параметры исполнения бюджета             города Орла за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квартал 2017 года (млн.рубле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826920" y="1557360"/>
            <a:ext cx="3384720" cy="1871640"/>
          </a:xfrm>
          <a:prstGeom prst="roundRect">
            <a:avLst>
              <a:gd name="adj" fmla="val 16667"/>
            </a:avLst>
          </a:prstGeom>
          <a:solidFill>
            <a:srgbClr val="ccffff">
              <a:alpha val="5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5148360" y="1557360"/>
            <a:ext cx="3384360" cy="1871640"/>
          </a:xfrm>
          <a:prstGeom prst="roundRect">
            <a:avLst>
              <a:gd name="adj" fmla="val 16667"/>
            </a:avLst>
          </a:prstGeom>
          <a:solidFill>
            <a:srgbClr val="ccffff">
              <a:alpha val="5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10800000">
            <a:off x="3995640" y="3429000"/>
            <a:ext cx="1511280" cy="1224000"/>
          </a:xfrm>
          <a:custGeom>
            <a:avLst/>
            <a:gdLst>
              <a:gd name="textAreaLeft" fmla="*/ 150840 w 1511280"/>
              <a:gd name="textAreaRight" fmla="*/ 1360440 w 1511280"/>
              <a:gd name="textAreaTop" fmla="*/ 699480 h 1224000"/>
              <a:gd name="textAreaBottom" fmla="*/ 1049400 h 1224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cffff">
              <a:alpha val="5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556000" y="4653000"/>
            <a:ext cx="4176720" cy="1800360"/>
          </a:xfrm>
          <a:prstGeom prst="flowChartTerminator">
            <a:avLst/>
          </a:prstGeom>
          <a:solidFill>
            <a:srgbClr val="ccff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1403280" y="1773360"/>
            <a:ext cx="2438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ccff">
                    <a:alpha val="75000"/>
                  </a:srgbClr>
                </a:solidFill>
                <a:latin typeface="Bookman Old Style"/>
              </a:rPr>
              <a:t>Доходы</a:t>
            </a:r>
            <a:endParaRPr b="1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00ccff">
                  <a:alpha val="75000"/>
                </a:srgbClr>
              </a:solidFill>
              <a:latin typeface="Bookman Old Style"/>
              <a:ea typeface="Bookman Old Style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3059280" y="486900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Bookman Old Style"/>
              </a:rPr>
              <a:t>Дефицит</a:t>
            </a:r>
            <a:endParaRPr b="1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Bookman Old Style"/>
              <a:ea typeface="Bookman Old Style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5364000" y="1700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Bookman Old Style"/>
              </a:rPr>
              <a:t>Расходы</a:t>
            </a:r>
            <a:endParaRPr b="1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Bookman Old Style"/>
              <a:ea typeface="Bookman Old Style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116000" y="2565360"/>
            <a:ext cx="30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946,7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12"/>
          <p:cNvSpPr txBox="1"/>
          <p:nvPr/>
        </p:nvSpPr>
        <p:spPr>
          <a:xfrm>
            <a:off x="3492360" y="5589720"/>
            <a:ext cx="2448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80,2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5292720" y="2492280"/>
            <a:ext cx="302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 026,9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8724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020000" y="4797000"/>
            <a:ext cx="172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0" y="1628640"/>
          <a:ext cx="8675640" cy="500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867564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"/>
          <p:cNvSpPr/>
          <p:nvPr/>
        </p:nvSpPr>
        <p:spPr>
          <a:xfrm>
            <a:off x="828720" y="155736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1640" y="22766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5,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-246,4 млн.руб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763640" y="1197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6,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-285,2 млн.руб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851280" y="2492280"/>
            <a:ext cx="158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2,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%              (-38,8 млн.руб.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4140360" y="3068640"/>
            <a:ext cx="936360" cy="217440"/>
          </a:xfrm>
          <a:custGeom>
            <a:avLst/>
            <a:gdLst>
              <a:gd name="textAreaLeft" fmla="*/ 163800 w 936360"/>
              <a:gd name="textAreaRight" fmla="*/ 678960 w 93636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6084720" y="2852640"/>
            <a:ext cx="936720" cy="289080"/>
          </a:xfrm>
          <a:custGeom>
            <a:avLst/>
            <a:gdLst>
              <a:gd name="textAreaLeft" fmla="*/ 176400 w 936720"/>
              <a:gd name="textAreaRight" fmla="*/ 662760 w 9367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39" hR="21600" stAng="10800000" swAng="5400000"/>
                <a:lnTo>
                  <a:pt x="11214" y="0"/>
                </a:lnTo>
                <a:arcTo wR="8139" hR="21600" stAng="-5400000" swAng="2624219"/>
                <a:lnTo>
                  <a:pt x="21034" y="13686"/>
                </a:lnTo>
                <a:lnTo>
                  <a:pt x="17815" y="21600"/>
                </a:lnTo>
                <a:lnTo>
                  <a:pt x="13463" y="13686"/>
                </a:lnTo>
                <a:lnTo>
                  <a:pt x="15711" y="13686"/>
                </a:lnTo>
                <a:arcTo wR="8139" hR="21600" stAng="-2775781" swAng="-2375467"/>
                <a:lnTo>
                  <a:pt x="9676" y="389"/>
                </a:lnTo>
                <a:arcTo wR="8139" hR="21600" stAng="-5648753" swAng="-5151247"/>
                <a:close/>
              </a:path>
              <a:path fill="darkenLess" w="21600" h="21600">
                <a:moveTo>
                  <a:pt x="0" y="21600"/>
                </a:moveTo>
                <a:arcTo wR="8139" hR="21600" stAng="10800000" swAng="5400000"/>
                <a:lnTo>
                  <a:pt x="8139" y="0"/>
                </a:lnTo>
                <a:arcTo wR="8139" hR="21600" stAng="-5400000" swAng="248753"/>
                <a:lnTo>
                  <a:pt x="9676" y="389"/>
                </a:lnTo>
                <a:arcTo wR="8139" hR="21600" stAng="-5648753" swAng="-5151247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050920" y="1773360"/>
            <a:ext cx="1079640" cy="215640"/>
          </a:xfrm>
          <a:custGeom>
            <a:avLst/>
            <a:gdLst>
              <a:gd name="textAreaLeft" fmla="*/ 203400 w 1079640"/>
              <a:gd name="textAreaRight" fmla="*/ 763920 w 1079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39" hR="21600" stAng="10800000" swAng="5400000"/>
                <a:lnTo>
                  <a:pt x="11214" y="0"/>
                </a:lnTo>
                <a:arcTo wR="8139" hR="21600" stAng="-5400000" swAng="2624219"/>
                <a:lnTo>
                  <a:pt x="21034" y="13686"/>
                </a:lnTo>
                <a:lnTo>
                  <a:pt x="17815" y="21600"/>
                </a:lnTo>
                <a:lnTo>
                  <a:pt x="13463" y="13686"/>
                </a:lnTo>
                <a:lnTo>
                  <a:pt x="15711" y="13686"/>
                </a:lnTo>
                <a:arcTo wR="8139" hR="21600" stAng="-2775781" swAng="-2375467"/>
                <a:lnTo>
                  <a:pt x="9676" y="389"/>
                </a:lnTo>
                <a:arcTo wR="8139" hR="21600" stAng="-5648753" swAng="-5151247"/>
                <a:close/>
              </a:path>
              <a:path fill="darkenLess" w="21600" h="21600">
                <a:moveTo>
                  <a:pt x="0" y="21600"/>
                </a:moveTo>
                <a:arcTo wR="8139" hR="21600" stAng="10800000" swAng="5400000"/>
                <a:lnTo>
                  <a:pt x="8139" y="0"/>
                </a:lnTo>
                <a:arcTo wR="8139" hR="21600" stAng="-5400000" swAng="248753"/>
                <a:lnTo>
                  <a:pt x="9676" y="389"/>
                </a:lnTo>
                <a:arcTo wR="8139" hR="21600" stAng="-5648753" swAng="-5151247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7"/>
          <a:stretch/>
        </p:blipFill>
        <p:spPr>
          <a:xfrm>
            <a:off x="0" y="0"/>
            <a:ext cx="687240" cy="836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36000" y="35733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3524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 города О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вартал 2016 – 201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ы бюджета города Орл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квартал 2016 – 2017 гг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68760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Rectangle 3"/>
          <p:cNvGraphicFramePr/>
          <p:nvPr/>
        </p:nvGraphicFramePr>
        <p:xfrm>
          <a:off x="324000" y="1413000"/>
          <a:ext cx="8250120" cy="51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413000"/>
                    <a:ext cx="825012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96000" y="12682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1484280"/>
            <a:ext cx="1798560" cy="647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6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1557360"/>
            <a:ext cx="1800000" cy="647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17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3924360" y="1341360"/>
            <a:ext cx="1798560" cy="432000"/>
          </a:xfrm>
          <a:custGeom>
            <a:avLst/>
            <a:gdLst>
              <a:gd name="textAreaLeft" fmla="*/ 312840 w 1798560"/>
              <a:gd name="textAreaRight" fmla="*/ 1306080 w 17985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14" hR="21600" stAng="10800000" swAng="5400000"/>
                <a:lnTo>
                  <a:pt x="11926" y="0"/>
                </a:lnTo>
                <a:arcTo wR="7514" hR="21600" stAng="-5400000" swAng="2672148"/>
                <a:lnTo>
                  <a:pt x="21170" y="14400"/>
                </a:lnTo>
                <a:lnTo>
                  <a:pt x="17234" y="21600"/>
                </a:lnTo>
                <a:lnTo>
                  <a:pt x="12438" y="14400"/>
                </a:lnTo>
                <a:lnTo>
                  <a:pt x="14598" y="14400"/>
                </a:lnTo>
                <a:arcTo wR="7514" hR="21600" stAng="-2727852" swAng="-2306255"/>
                <a:lnTo>
                  <a:pt x="9720" y="952"/>
                </a:lnTo>
                <a:arcTo wR="7514" hR="21600" stAng="-5765893" swAng="-5034107"/>
                <a:close/>
              </a:path>
              <a:path fill="darkenLess" w="21600" h="21600">
                <a:moveTo>
                  <a:pt x="0" y="21600"/>
                </a:moveTo>
                <a:arcTo wR="7514" hR="21600" stAng="10800000" swAng="5400000"/>
                <a:lnTo>
                  <a:pt x="7514" y="0"/>
                </a:lnTo>
                <a:arcTo wR="7514" hR="21600" stAng="-5400000" swAng="365893"/>
                <a:lnTo>
                  <a:pt x="9720" y="952"/>
                </a:lnTo>
                <a:arcTo wR="7514" hR="21600" stAng="-5765893" swAng="-5034107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981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87,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(-150,1 млн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7:17:34Z</dcterms:created>
  <dc:creator>ulanov</dc:creator>
  <dc:description/>
  <dc:language>en-US</dc:language>
  <cp:lastModifiedBy>Fin529-2</cp:lastModifiedBy>
  <dcterms:modified xsi:type="dcterms:W3CDTF">2017-11-16T08:08:49Z</dcterms:modified>
  <cp:revision>728</cp:revision>
  <dc:subject/>
  <dc:title>Согласование консолидированного бюджета Красноярского края на 2011 год</dc:title>
</cp:coreProperties>
</file>